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7.wmf" ContentType="image/x-wmf"/>
  <Override PartName="/ppt/media/image26.jpeg" ContentType="image/jpeg"/>
  <Override PartName="/ppt/media/image24.wmf" ContentType="image/x-wmf"/>
  <Override PartName="/ppt/media/image21.png" ContentType="image/png"/>
  <Override PartName="/ppt/media/image23.png" ContentType="image/png"/>
  <Override PartName="/ppt/media/image6.wmf" ContentType="image/x-wmf"/>
  <Override PartName="/ppt/media/image19.jpeg" ContentType="image/jpeg"/>
  <Override PartName="/ppt/media/image29.wmf" ContentType="image/x-wmf"/>
  <Override PartName="/ppt/media/image11.wmf" ContentType="image/x-wmf"/>
  <Override PartName="/ppt/media/image18.png" ContentType="image/png"/>
  <Override PartName="/ppt/media/image31.wmf" ContentType="image/x-wmf"/>
  <Override PartName="/ppt/media/image7.jpeg" ContentType="image/jpeg"/>
  <Override PartName="/ppt/media/image25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2.wmf" ContentType="image/x-wmf"/>
  <Override PartName="/ppt/media/image30.wmf" ContentType="image/x-wmf"/>
  <Override PartName="/ppt/media/image33.png" ContentType="image/png"/>
  <Override PartName="/ppt/media/image34.png" ContentType="image/png"/>
  <Override PartName="/ppt/media/image15.png" ContentType="image/png"/>
  <Override PartName="/ppt/media/image36.jpeg" ContentType="image/jpeg"/>
  <Override PartName="/ppt/media/image2.jpeg" ContentType="image/jpeg"/>
  <Override PartName="/ppt/media/image35.png" ContentType="image/png"/>
  <Override PartName="/ppt/media/image5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3.png" ContentType="image/png"/>
  <Override PartName="/ppt/media/image20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C2A2-2E18-45AE-912C-FD67A6662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7691-8085-4263-A274-0742724A3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04E5-2022-454B-AC14-891B0EAB5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C484-D41E-4FF3-893E-B70E48776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7F25-3FC5-4697-8D83-3B515C317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411B-1477-443E-824D-2BFF5E45F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7335-D7A9-44F7-B4B6-2BFA8EA81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9B9E-E095-44A5-86A9-72773A2CB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320F-C43F-44E2-9D8E-34211AF55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7628-6142-420E-BAD0-85BEC7FA2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56AC-5A47-410A-AEE7-E3649F729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D153-A6CC-43E2-B812-5892FC8FC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4C86-5D97-4662-8F46-3FFF547A8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4D12-27BE-423A-9A1E-C5276148A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EC9B-9D14-438D-8AAA-6E5B250D3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EF32-CF4B-4F1C-9FB8-EECFDDC15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FF6E-CD8F-42C4-9B6C-8DEF64DEC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D469-5D40-4DEA-AE42-A52305DC6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5A14-05DD-4A17-AF97-738743A3F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96AA-B5CD-4F14-BED8-B3797EFEC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2577A-B3A6-4E13-ADAF-512E2D996D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12588-620F-4D20-B26D-6D99106DD9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74006-869D-4822-940F-2E65C2387B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6B7BB-E207-44E2-B678-FC54DC9AAC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C399-510B-44A8-A4D4-DBC53DDE05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4336-545D-4FC2-8BD5-4BEC1DA7C6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E26D-D3CA-4DBB-AFF7-EFBD4DEC05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90B2-FE9C-43A5-A3F1-5CA2F7904F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83E9-6E03-48B1-8C64-2517357936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CC7C-0E04-4159-BD19-CA0B740C0F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831B-AFBF-4FF2-A5F4-469433B8FF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9F927-E827-4EF4-8D30-B09F3F8BA2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E0F0-FE3F-42D8-B278-0E28651EC2C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451A-DE38-4924-880C-09F276D567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7370-CA6A-442F-81F1-43854DE956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FEC6-BFCA-4D55-BB88-DDDE742F0E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69A3-90DA-4F81-81CE-5ECCAF1354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8C422-0698-4803-9093-531B66FF40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B0968-8394-4FAD-AAFC-B6EC8B174F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EBA83-1D15-4D80-A711-CA3ECB4415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79EA1-0E3F-4A83-8E43-FDE2009EF1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64B21-68A5-4C56-9D77-21E4324B2C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608CA-525B-4402-981B-D0D2B02AC7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96C55-8597-4579-B4D9-20832D8743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21D3-5DEE-46B4-AFDF-06C53583D3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8BC2-46F8-435A-A2FC-513CEA5995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EBC9-7C42-4462-A9E2-EBF16C4877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2362320" y="1600200"/>
            <a:ext cx="7315200" cy="27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Approvisionnement et gestion des stoc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DB60-A147-4A6B-8B68-5AA7565A9C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 mettre en place un contrôle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1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3124080" y="2895480"/>
            <a:ext cx="31244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trôle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3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4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5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6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7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8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ssigner responsabi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6629400" y="21337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nalyse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des beso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1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tablir les besoins minim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2"/>
          <p:cNvSpPr/>
          <p:nvPr/>
        </p:nvSpPr>
        <p:spPr>
          <a:xfrm>
            <a:off x="3429000" y="5257800"/>
            <a:ext cx="2514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Développer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formulaires et regis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3"/>
          <p:cNvSpPr/>
          <p:nvPr/>
        </p:nvSpPr>
        <p:spPr>
          <a:xfrm>
            <a:off x="685800" y="449568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tablir système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our recevoir et sto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4"/>
          <p:cNvSpPr/>
          <p:nvPr/>
        </p:nvSpPr>
        <p:spPr>
          <a:xfrm>
            <a:off x="685800" y="2057400"/>
            <a:ext cx="266688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Maintenir </a:t>
            </a:r>
            <a:br>
              <a:rPr sz="1400"/>
            </a:b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un système de gestion de stock dans toutes les zones de sto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5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6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7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8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9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0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4A8F-AC82-47DA-BA3A-360F4DA55D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r les beso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re une analyse des besoins en consommables et réactifs 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stant toutes les analys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ant les consommables nécessaires pour chaque analy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ant l’information disponible pour estimer la conso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A7E2-88D9-4EE1-81F0-2711EDFBAA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nalyse des besoins : Information Requ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80880" y="1295280"/>
            <a:ext cx="8534520" cy="5045040"/>
            <a:chOff x="380880" y="1295280"/>
            <a:chExt cx="8534520" cy="5045040"/>
          </a:xfrm>
        </p:grpSpPr>
        <p:sp>
          <p:nvSpPr>
            <p:cNvPr id="222" name="AutoShape 4"/>
            <p:cNvSpPr/>
            <p:nvPr/>
          </p:nvSpPr>
          <p:spPr>
            <a:xfrm>
              <a:off x="380880" y="1295280"/>
              <a:ext cx="8534520" cy="504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98691"/>
            <p:cNvSpPr/>
            <p:nvPr/>
          </p:nvSpPr>
          <p:spPr>
            <a:xfrm flipH="1" flipV="1">
              <a:off x="2616120" y="3436560"/>
              <a:ext cx="1022400" cy="1904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98685"/>
            <p:cNvSpPr/>
            <p:nvPr/>
          </p:nvSpPr>
          <p:spPr>
            <a:xfrm>
              <a:off x="542880" y="2631960"/>
              <a:ext cx="213192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Espace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 stockage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98690"/>
            <p:cNvSpPr/>
            <p:nvPr/>
          </p:nvSpPr>
          <p:spPr>
            <a:xfrm flipH="1">
              <a:off x="3393720" y="4313160"/>
              <a:ext cx="630360" cy="5050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98672"/>
            <p:cNvSpPr/>
            <p:nvPr/>
          </p:nvSpPr>
          <p:spPr>
            <a:xfrm>
              <a:off x="1704960" y="4699080"/>
              <a:ext cx="2131920" cy="1231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Temps pour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recevoir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comman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98689"/>
            <p:cNvSpPr/>
            <p:nvPr/>
          </p:nvSpPr>
          <p:spPr>
            <a:xfrm>
              <a:off x="5272200" y="4313160"/>
              <a:ext cx="635040" cy="503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98670"/>
            <p:cNvSpPr/>
            <p:nvPr/>
          </p:nvSpPr>
          <p:spPr>
            <a:xfrm>
              <a:off x="5465880" y="4699080"/>
              <a:ext cx="2131920" cy="12319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Niveau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 priorité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98688"/>
            <p:cNvSpPr/>
            <p:nvPr/>
          </p:nvSpPr>
          <p:spPr>
            <a:xfrm flipV="1">
              <a:off x="5657760" y="3435120"/>
              <a:ext cx="1022400" cy="191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98667"/>
            <p:cNvSpPr/>
            <p:nvPr/>
          </p:nvSpPr>
          <p:spPr>
            <a:xfrm>
              <a:off x="6248520" y="2631960"/>
              <a:ext cx="25128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1900" spc="-1" strike="noStrike">
                  <a:solidFill>
                    <a:srgbClr val="000000"/>
                  </a:solidFill>
                  <a:latin typeface="Arial"/>
                </a:rPr>
                <a:t>Consommation/mois       </a:t>
              </a:r>
              <a:br>
                <a:rPr sz="1600"/>
              </a:b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98687"/>
            <p:cNvSpPr/>
            <p:nvPr/>
          </p:nvSpPr>
          <p:spPr>
            <a:xfrm flipV="1">
              <a:off x="4648320" y="2583000"/>
              <a:ext cx="0" cy="620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98665"/>
            <p:cNvSpPr/>
            <p:nvPr/>
          </p:nvSpPr>
          <p:spPr>
            <a:xfrm>
              <a:off x="3276720" y="1352520"/>
              <a:ext cx="243972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Unité de 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conditionnement      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98662"/>
            <p:cNvSpPr/>
            <p:nvPr/>
          </p:nvSpPr>
          <p:spPr>
            <a:xfrm>
              <a:off x="3584520" y="3203640"/>
              <a:ext cx="228132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br>
                <a:rPr sz="3000"/>
              </a:b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d'un article </a:t>
              </a:r>
              <a:br>
                <a:rPr sz="3000"/>
              </a:b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FAE1-6C38-47F7-B49C-2C890CC63D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533520"/>
            <a:ext cx="80773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 ce que la quantification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09480" y="1905120"/>
            <a:ext cx="7848720" cy="25311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La quantification</a:t>
            </a:r>
            <a:r>
              <a:rPr b="0" lang="fr-FR" sz="3200" spc="-1" strike="noStrike">
                <a:solidFill>
                  <a:srgbClr val="ffcc00"/>
                </a:solidFill>
                <a:latin typeface="Verdana"/>
              </a:rPr>
              <a:t> est un processus pour calculer la quantité requise d’un article pour une période donné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3833-5FF7-4024-AAB7-8CD5F816C5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tification :  </a:t>
            </a:r>
            <a:r>
              <a:rPr b="1" lang="fr-FR" sz="3600" spc="-1" strike="noStrike">
                <a:solidFill>
                  <a:srgbClr val="e40202"/>
                </a:solidFill>
                <a:latin typeface="Verdana"/>
              </a:rPr>
              <a:t>quand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t partie de la planification annu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ise en œuvre d’un nouveau programme de san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préparation à une épidémie potentielle ou identifi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3C98-83B6-435F-8ED6-C02EFA62AA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 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Comment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éthode basée sur la consomm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éthode basée sur la morbid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B051-2D11-4202-A509-030551B8B4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antification: basée sur la conso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5943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asée sur la consommation ré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oit prendre en comp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réellement uti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gaspillés périmés ou abîm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en rupture de stock plus de 15 jours sur l’ann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Untitled-43"/>
          <p:cNvPicPr/>
          <p:nvPr/>
        </p:nvPicPr>
        <p:blipFill>
          <a:blip r:embed="rId1"/>
          <a:stretch/>
        </p:blipFill>
        <p:spPr>
          <a:xfrm>
            <a:off x="5638680" y="2695680"/>
            <a:ext cx="350532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8BC1-74D2-4C20-B4DF-8818FA2793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Untitled-42"/>
          <p:cNvPicPr/>
          <p:nvPr/>
        </p:nvPicPr>
        <p:blipFill>
          <a:blip r:embed="rId1"/>
          <a:stretch/>
        </p:blipFill>
        <p:spPr>
          <a:xfrm>
            <a:off x="5105520" y="2395440"/>
            <a:ext cx="4038480" cy="25574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tification: basée sur la morbid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asée sur le nombre réel d’é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oit prendre en compt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aill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idence mala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actitude donnée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morbid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gnes de conduit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andardisées de trai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4A70-5203-4CBF-8034-98D3C75F14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ir les registr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de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uméro de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ritères de refus ou d’acceptation des produ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d’utilisation/sortis du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 peut être utile de garder les registres sur le lieu de stock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storage_shelves"/>
          <p:cNvPicPr/>
          <p:nvPr/>
        </p:nvPicPr>
        <p:blipFill>
          <a:blip r:embed="rId1"/>
          <a:stretch/>
        </p:blipFill>
        <p:spPr>
          <a:xfrm>
            <a:off x="6647040" y="533520"/>
            <a:ext cx="2116080" cy="21333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la gestion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de stock 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j0234700"/>
          <p:cNvPicPr/>
          <p:nvPr/>
        </p:nvPicPr>
        <p:blipFill>
          <a:blip r:embed="rId2"/>
          <a:stretch/>
        </p:blipFill>
        <p:spPr>
          <a:xfrm rot="2522400">
            <a:off x="7559280" y="3511440"/>
            <a:ext cx="16002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1F24-16EB-4475-BCA8-01D6655420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gistre de st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et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de ré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Quantit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de pére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ock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alance du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tre informatio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uméro étag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sti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6" descr=";og_book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2919-DD3E-47C2-9CF7-2461C816AC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es étapes nécessaires pour mettre en œuvre un programme de contrôle et d’inventaire des 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mmer les facteurs à considérer avant d’acheter des consomm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velopper un plan de contrôle du système de gestion des stocks et des invent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iscuter l’importance de la documentation concernant l’approvisionnement et la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1291-DFDF-47F2-9E15-020497D4B0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Inspecter les commandes au moment de la livra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es conte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’intég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la date de réception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our chaque prod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la date de pére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anger les nouveaux articles derrière ceux en sto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réer ou mettre à jour des regis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FIL15003"/>
          <p:cNvPicPr/>
          <p:nvPr/>
        </p:nvPicPr>
        <p:blipFill>
          <a:blip r:embed="rId1"/>
          <a:stretch/>
        </p:blipFill>
        <p:spPr>
          <a:xfrm>
            <a:off x="6781680" y="4495680"/>
            <a:ext cx="2076480" cy="1860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pe01495_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B97C-1626-45CD-A278-80E2324EA7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p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Organisé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erm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ien ventil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s de soleil dir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gères soli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rticles à portée de 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écautions de sécurité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0" descr="5539_lores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storage_messy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8"/>
          <p:cNvSpPr/>
          <p:nvPr/>
        </p:nvSpPr>
        <p:spPr>
          <a:xfrm>
            <a:off x="6019920" y="3962520"/>
            <a:ext cx="2133360" cy="2057400"/>
          </a:xfrm>
          <a:prstGeom prst="pie">
            <a:avLst/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3" descr="j0434713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9969-6FC2-4995-AB29-51ABA01315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Rayonn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0" descr="j0232844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11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j0127642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17"/>
          <p:cNvSpPr/>
          <p:nvPr/>
        </p:nvSpPr>
        <p:spPr>
          <a:xfrm>
            <a:off x="685800" y="5334120"/>
            <a:ext cx="297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uivre les précautions de sécur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8" descr="j0187423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2" descr="in00200_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20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1"/>
          <p:cNvSpPr/>
          <p:nvPr/>
        </p:nvSpPr>
        <p:spPr>
          <a:xfrm>
            <a:off x="4572000" y="4343400"/>
            <a:ext cx="2133720" cy="2057400"/>
          </a:xfrm>
          <a:prstGeom prst="pie">
            <a:avLst/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4DD2-BE72-48DF-A1C7-5763A7788A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ite la “perte” d’un produ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conomise du te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ématise l’espac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sto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uméroter chambres froides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frigérateurs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t congélateur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t étiqueter les ray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8" descr="refrigerator_storage_cdc"/>
          <p:cNvPicPr/>
          <p:nvPr/>
        </p:nvPicPr>
        <p:blipFill>
          <a:blip r:embed="rId1"/>
          <a:srcRect l="0" t="0" r="0" b="25408"/>
          <a:stretch/>
        </p:blipFill>
        <p:spPr>
          <a:xfrm>
            <a:off x="4495680" y="4800600"/>
            <a:ext cx="3246480" cy="17017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rganisation des rayonn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7" descr="stock_room"/>
          <p:cNvPicPr/>
          <p:nvPr/>
        </p:nvPicPr>
        <p:blipFill>
          <a:blip r:embed="rId2"/>
          <a:stretch/>
        </p:blipFill>
        <p:spPr>
          <a:xfrm>
            <a:off x="5791320" y="1716120"/>
            <a:ext cx="320040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0B7B-C777-4BFE-B64E-8B7685DBB7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Utiliser des étiquettes avec des dates clairement visibl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te d’ouver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te de pérem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6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8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9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0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E7614-9487-42AD-B552-56A090AF29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rôle continu de la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6" descr="Untitled-41"/>
          <p:cNvPicPr/>
          <p:nvPr/>
        </p:nvPicPr>
        <p:blipFill>
          <a:blip r:embed="rId1"/>
          <a:stretch/>
        </p:blipFill>
        <p:spPr>
          <a:xfrm>
            <a:off x="457200" y="1050840"/>
            <a:ext cx="822960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D97B-6483-4865-A9EC-B14A270E7E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Gestion informatis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tat exact du stock, classification des prod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s dates de pére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tatistiques </a:t>
            </a: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planifier les ordres d’ac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 la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âches de gestion de stock facili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convéni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rdinateur sur place nécess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quiert un personnel form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docs_computer_africa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867280" y="3713040"/>
            <a:ext cx="26672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6CB7-3DB9-4718-B912-39F3D64592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 laboratoire bien géré possèdera un système d’approvisionnement et de gestion de st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système requière de planifier et contrôler: analyser les besoins, développer des formulaires et procédures, maintenir un inventaire. Le laboratoire devra maintenir un système de gestion de stock pour tous les réactifs et consommables utilisés a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0303-9736-4796-992A-7F8B552F75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gestion de stock 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gmente l’efficience et l’efficacité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pondra aux besoins des patients et du personnel de so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 la disponibilité des produits quand nécess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21D7-CAA3-440E-91F8-93DBBC784D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58128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121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609480" y="10666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20C7-89AF-4809-8A88-19C23400B9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n demande à votre laboratoire de se préparer en vue d’une épidémie de grippe potentiel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ls sont les différents facteurs à étudier en planifiant ce processu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ls problèmes seriez vous susceptibles de rencontrer lors de la planification et de la mise en oeuv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A76E-1F00-4DF0-8B91-FF58B27B0C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43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6132-8811-44F9-B9C1-43B95BDEC0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Bénéfices d’un programme</a:t>
            </a:r>
            <a:br>
              <a:rPr sz="3200"/>
            </a:b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6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609480" y="3352680"/>
            <a:ext cx="2438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Fournitures et réactifs toujours dispon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5943600" y="3200400"/>
            <a:ext cx="28195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oins de gaspill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Budget respec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2" descr="j0424198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15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maint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7" descr="lab1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153" name="Line 19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0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1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36D2-AA2D-475E-8464-92EDDFE537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quilibre entre disponibilité du stock et dates de péremption des produits.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durée de vie des réactifs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var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actifs RIA : 3 à 8 sema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Kits API : 4 à 12 m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tisérums : 1 à 4 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isques antibiotiques : 2 à 3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ilieu de culture prêt à l’emploi : 1 à 2 m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ilieu de culture déshydraté : 3 à 5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FIL738"/>
          <p:cNvPicPr/>
          <p:nvPr/>
        </p:nvPicPr>
        <p:blipFill>
          <a:blip r:embed="rId1"/>
          <a:stretch/>
        </p:blipFill>
        <p:spPr>
          <a:xfrm>
            <a:off x="5410080" y="2514600"/>
            <a:ext cx="3429000" cy="28875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Défis de la gestion de sto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5791320" y="36576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En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7467480" y="33526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ate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érem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8834-2903-45ED-81D0-9AF389E2FF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principau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6" descr="Untitled-46"/>
          <p:cNvPicPr/>
          <p:nvPr/>
        </p:nvPicPr>
        <p:blipFill>
          <a:blip r:embed="rId1"/>
          <a:stretch/>
        </p:blipFill>
        <p:spPr>
          <a:xfrm>
            <a:off x="228600" y="1438200"/>
            <a:ext cx="868680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13BD-CF89-42CA-9418-58089BCD90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pour qualifier et sélectionner des vend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finir des critères de sélection pour les consommables ou réactifs à ache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ercher des informations auprès d’autres laborato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aluer avant l’approvisionnement et après la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678B-9FA9-426A-88DC-F6390955C3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sidé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éterminer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odalités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de paiemen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8"/>
          <p:cNvGrpSpPr/>
          <p:nvPr/>
        </p:nvGrpSpPr>
        <p:grpSpPr>
          <a:xfrm>
            <a:off x="457200" y="1143000"/>
            <a:ext cx="5409720" cy="2971080"/>
            <a:chOff x="457200" y="1143000"/>
            <a:chExt cx="5409720" cy="2971080"/>
          </a:xfrm>
        </p:grpSpPr>
        <p:sp>
          <p:nvSpPr>
            <p:cNvPr id="177" name="AutoShape 9"/>
            <p:cNvSpPr/>
            <p:nvPr/>
          </p:nvSpPr>
          <p:spPr>
            <a:xfrm>
              <a:off x="457200" y="1143000"/>
              <a:ext cx="5409720" cy="29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0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buClr>
                  <a:srgbClr val="ffcc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Négocier les pri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buClr>
                  <a:srgbClr val="ffcc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Revoir </a:t>
              </a:r>
              <a:br>
                <a:rPr sz="2000"/>
              </a:b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contra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Line 17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3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1"/>
          <p:cNvSpPr/>
          <p:nvPr/>
        </p:nvSpPr>
        <p:spPr>
          <a:xfrm>
            <a:off x="609480" y="1295280"/>
            <a:ext cx="5105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Comprendre les exigences du gouver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2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3" descr="j0412568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4" descr="j0311860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5" descr="j0185303"/>
          <p:cNvPicPr/>
          <p:nvPr/>
        </p:nvPicPr>
        <p:blipFill>
          <a:blip r:embed="rId3"/>
          <a:stretch/>
        </p:blipFill>
        <p:spPr>
          <a:xfrm>
            <a:off x="6705720" y="5029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6"/>
          <p:cNvSpPr/>
          <p:nvPr/>
        </p:nvSpPr>
        <p:spPr>
          <a:xfrm>
            <a:off x="5638680" y="373392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ssurer disponibilité et livra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12:07:52Z</dcterms:created>
  <dc:creator>sam5</dc:creator>
  <dc:description/>
  <dc:language>en-US</dc:language>
  <cp:lastModifiedBy>dolmazonv</cp:lastModifiedBy>
  <dcterms:modified xsi:type="dcterms:W3CDTF">2010-04-07T15:05:22Z</dcterms:modified>
  <cp:revision>130</cp:revision>
  <dc:subject/>
  <dc:title>Slide 1</dc:title>
</cp:coreProperties>
</file>